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C04F-AD20-4D47-B6A1-D6BAB23D7E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Darnay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巴黎去救他们家族的一个仆人说明了他是一个善良的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at’s why Charles  hated the cruel deeds of the French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Thr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was sentenced to death because he belonged to the family of the Marqu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被判处死刑是因为他是侯爵家族的成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rth 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e know this fact from the sentence in Paragraph 4 “Madam Defarge was the sister of the peasant boy and siste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F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ydne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法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吃了有催眠作用的药，使他离开了监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we can say that Sydney was determined to help his friends. This also proved that he was a kind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面哪个选项不是这个故事的意图：故事中没有提到任何有关两个城市的介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ay attention to the question, which one is not mentioned in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fter reading the whole story, it is easy for to find the answer. Because we can’t find any information on the two cities: London and Paris. But we can read about Sydney’s devotion of love, the noble’s cruelty and the poor young peasant and his si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tually, in the original novel, just before Sydney had his head cut off, he gave a speech. Do you want to  know his last speech? Let’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是我错做过的最好的事情，这是我所知道的最好的休息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n you understand his last spe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 Sydney very great man. I think so. I think he is one of the greatest men in the world. Don’t you think s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p to now, we have finished reading the story. Do you enjoy it. I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ave you read any English novel? If not, I advice you to read this novel “A Tale of Two Cities”. When you read, I would say do not read a short summary, but the original one, either in Chinese or in English, it depends on your English level, so long as you can know about more details. For me I prefer the English 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, everyone!. Good to see you again. Today we are going to learn the last lesson in Unit 22, Lesson 87. Before that, Let’s go over the studying go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农村革命者放火烧贵族的城堡，将它们夷为平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lease pay attention to the underlined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里的介词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o …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结果。类似的用法还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跌到地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撕成碎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宣判死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word I want to mention is “addres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Darna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伦敦一家银行发现一封法国来信，信是写给他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 this sentence, the word “address”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动词，短语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ddress to sb,” means 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写某人的姓名或地址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 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有一封写给你的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个包裹不是寄给我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we know, the word “address” is also used as a noun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名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. 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无法看清信封上的地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much for the word “address” and let’s move to the next one “or rather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Darna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伦敦一家银行发现一封法国来信，信是写给他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者更确切地说，是写给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 Evremon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侯爵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phrase “or rather” means “more exactly” or “more truly”. In Chinese we say 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确切地说”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昨天晚上我很晚才睡，更确切地说，我是今天凌晨才谁的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是一名英语教师，更准确地说，他是一名英语教授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en we use this phrase, we must pay attention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我们在使用这个短语是要注意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or rath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一个插入语，一般置于句子的中间，并用逗号将它于句子的前后部分隔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one is “on one’s arriva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然而，当他一到巴黎就立即被人认出是贵族，因而被投入监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个结构里的固定用法是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on/ upon + one’s / the +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名词，表示“一……就……”，注意：这里的名词一般都是有动词变来的，其它的普通名词一般不可以用在这里。比如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rriva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rriv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名词形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老板一进来他们都站了起来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ntranc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名词形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一回美国就开始他的写作。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既是名词也可以用作动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one is “through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得知他法国家中的一个仆人无辜地被关进了监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里的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相当于介词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用法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 no faul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no reaso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无辜地”；“没有原因地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没原因地丢了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个男孩因为吃得太多而生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都是因为你刚才所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hree goals to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但从意思上看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还相当于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cause o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a result o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e t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样一个意思我们可以用多种方式表达，比如这个句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因为交通拥挤而上课迟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面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 the thick traffi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用如下形式表达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much for the “through”. Next one is “doub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法庭里的人们听到这件事后，他们脑子里无疑都认为汕头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. Evremonde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家族实在是罪孽深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这里是名词，表示“怀疑”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否会按时来还很难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是事谁干的我心里有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整件事情仍未见分晓。注意这里的词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 doub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不确定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作名词，可以用在如下的结构中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学们如果能自己动手查查字典，找出各个结构的例句会对这些结构有更深的理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one is “do wrong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: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刚才已经见过这个句子了，请同学们注意这里的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 wro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希望你永不做错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做了错事，但他真心的悔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过刚才的例句，我们知道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名词，表示“错事；坏事；冤屈”等，其反义词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正确的事”。如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孩子们是非不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似的用法还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 good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做好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, do harm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有害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, do one’s best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力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et’s look at the last one  “eager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from the text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然后他又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efarg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酒店，了解到为什么他们夫妇强烈要求处死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原因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形容词，表示“渴望的；热切的”，通常用在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 eager to do st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渴望做某事”或“热心做某事”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们都渴望看看首都的名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营业员热情地接待了我们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意思接近的词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nxiou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nxiou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强调“焦急的；发愁的；忧虑的”等意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作状语时，可以表示时间、原因、条件、伴随、结果等。请看例句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坐在扶手椅上读报纸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ading the newspaper”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伴随，是伴随着谓语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t in the armchai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其实这句话相当于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 sat in the armchair and read the news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comes the two pre-read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open your book at page 58,  let’s listen to the tape, while listening, think about the two questions. You can make some notes when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由于生病，她只好卧床休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ing ill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原因，说明“她卧床休息的原因”。这句话我们换一种方式讲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e had to stay in bed because she was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she was ill, she had to stay in 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此，当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表示原因是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cause, as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引导的原因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那男孩跌倒了，头碰在门上碰破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iking his head against the do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utting 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结果，表示跌倒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el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结果。如果我们换一种方式来表达这个意思，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boy fell so that he stroke his head against the door and cu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表示结果时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tha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引导的结果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咱们再看第四个句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她在外出前穿衣服时把镜子打破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ressing to go ou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时间。我们也可以换一种形式来表达这个意思，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e broke her looking glass when she was dressing to go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作状语表示时间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en, before, after, as soon a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引导的时间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你老站着只会弄得你更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eeping on your fee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条件。如果我们换成条件状语从句的形式来表达这个意思，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you keep on your feet, you will only make yourself more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作状语表示条件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引导的条件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刚才我们总结了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作状语的用法，有一点还请大家注意，各种从句都要有完整的主谓结构，而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中没有主语。那么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所表示的动作的执行者是什么呢？这个形式主语要和主句的主语是一致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也就是说，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做状语，表示句子主语的主动动作。如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听到呼救声，他们都冲出了房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吃完晚饭，他出去散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两个句子中，无论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aving ha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都是句子的主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发出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 Please finish Part 3 and Part 4 on Page 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 Please finish Exercise 2 and 3 on page 120 in your work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 For the writing homework, you are required to writing an introduction to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nglish Novel which you have ever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ording to the story, a lot of things happened to Charles Darn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irst he returned to France to rescue a servant of his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soon as he arrived at Paris, he was recognized as a no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 was thrown into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nce the St. Evremonde family had done much wrong, Charles was sentenced to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e looked very much like 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he </a:t>
            </a:r>
            <a:r>
              <a:rPr b="0" lang="zh-CN" sz="1200" spc="-1" strike="noStrike">
                <a:solidFill>
                  <a:srgbClr val="ffcc66"/>
                </a:solidFill>
                <a:latin typeface="Arial"/>
              </a:rPr>
              <a:t>took the place of his friend, Charles, had his head cut 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we say, Sydney sacrificed his own life for Charles and his wife Lucie. We can also say that Sydney sacrificed his own life for l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crifice /`s  drifais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牺牲；献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any idea of this part of the story? I want to show you some comprehension questions, and I think they can help you understand the story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 will do next is to choose the best answer to the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巴黎的穷人起来反抗法国贵族是因为穷人们受到残酷的对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e knew it when read the first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CB2-DEEE-4289-ACD4-12CC8F2D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23C0-993E-4ECD-8BDF-75EC2544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575-4416-4368-A2DD-3B8A1AAE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452-5EB6-4162-B263-C36A694C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C791-7444-4141-A95D-C3335536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695D-6757-4BCA-9D8E-BA3B1E5C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FD4D-F3E8-4AC7-99C2-048EB8CB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39D8-0C60-4EEB-9DEE-092DD90B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5D44-D3FD-4E62-AB1A-F14FE313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9583-15AA-495F-BC07-BE8FDF0F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0FC7-B679-410F-B65B-C3B001AE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92F-5BB2-4305-B5D5-E0C5749E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5492-2EC7-4578-880A-41D66CCD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DEA1-45D2-4741-BEF9-48FB1BE9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461E-CC36-4E93-82DB-04B1AF34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7A7D-D87D-4D42-9F08-D8BB9D3C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66F3-E2C9-491B-8C2B-55F67EF7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3FE5-E919-4CD7-A143-87BB9F17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3CCB-E3FB-4F66-9FCB-AB018176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7C0-CBB0-4C47-BA8F-33B8F16E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678-96C7-447B-BA4C-D960F243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3A1-629D-4B91-82D2-AF3BDD4C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EFF7-E0FE-4BB5-AAC0-D66D15A4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1A8-85E0-458E-96AD-04EF6171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3DCF-970E-4127-9CEE-36D8D2CA8E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FF6C-97E1-4681-9BB6-BDE9B0B76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U22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MingLiU"/>
              </a:rPr>
              <a:t>A Tale of Two Cities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C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3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邵紫    师大二附中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22280" y="190512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The fact that Charles Darnay went to Paris to rescue the servant shows that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e felt guilty of his p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he had done something wrong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serv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C. he was a kind 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e regretted what he had do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22280" y="1752120"/>
            <a:ext cx="660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Charles was sentenced to death because he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done something wrong to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rother and s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belonged to the family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arqu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had betrayed his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ad changed his n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22280" y="1752120"/>
            <a:ext cx="660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Charles was sentenced to death because he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done something wrong to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rother and s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B. belonged to the family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Marqu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had betrayed his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ad changed his n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The young peasant boy and his sister were Defarge’s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neighbo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. relat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brother and sister-in-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brother and sis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The young peasant boy and his sister were Defarge’s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neighbo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. relat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6600"/>
                </a:solidFill>
                <a:latin typeface="Times New Roman"/>
              </a:rPr>
              <a:t>C. brother and sister-in-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brother and sis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69640" y="1981080"/>
            <a:ext cx="690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Sydney managed to have Charles leave the prison by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persuading him to do 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. giving him some medic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asking him to have a sle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asking help from the pri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u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Sydney managed to have Charles leave the prison by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persuading him to do 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6600"/>
                </a:solidFill>
                <a:latin typeface="Times New Roman"/>
              </a:rPr>
              <a:t>B. giving him some medic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asking him to have a sle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asking help from the pri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u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752480"/>
            <a:ext cx="705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 Which of the following is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NO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purpose of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To praise the devotion of l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To condemn the noble’s cruel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To give us an introduction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wo c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To have pity on the young peas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nd his sis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69640" y="1752480"/>
            <a:ext cx="690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 Which of the following is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NO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purpose of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To praise the devotion of l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To condemn the noble’s cruel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C. To give us an introduction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     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two c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To have pity on the young peas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nd his sis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Sydney’s Last Speech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22280" y="2209320"/>
            <a:ext cx="660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a far, far better thing that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, than I have ever done; it 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far, far better rest that I go to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I have ever know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Unit 22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f53d"/>
                </a:solidFill>
                <a:latin typeface="Times New Roman"/>
              </a:rPr>
              <a:t>Lesson 87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f53d"/>
                </a:solidFill>
                <a:latin typeface="Times New Roman"/>
              </a:rPr>
              <a:t>A Tale of Two Citi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French_revolution2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3429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burn to the grou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Line7; Para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country the revolutiona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fire to the nobles’ castl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bur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hem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to the grou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burn to the grou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2971800"/>
            <a:ext cx="4114800" cy="1219320"/>
          </a:xfrm>
          <a:prstGeom prst="wedgeEllipseCallout">
            <a:avLst>
              <a:gd name="adj1" fmla="val -58180"/>
              <a:gd name="adj2" fmla="val -8268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介词短语表示结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9200" y="194940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22200" y="3975120"/>
            <a:ext cx="334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ll to the gr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ar …to pie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ntence to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ddres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v.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2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harles Darnay found at a bank in London a letter from France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e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him,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69640" y="1447560"/>
            <a:ext cx="69073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ddress  to sb.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写某人的姓名或地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’s a letter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ed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is package is no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ed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ddres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地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can’t read the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on this envelop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2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harles Darnay found at a bank in London a letter from France addressed to him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the Marquis St. Evremonde,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r rather: more exactly; more truly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                                 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更确切地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went to sleep very late last night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early this mor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an English teacher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a professor of Englis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9073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n one’s arriv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5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owever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n his arrival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 Par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recognized as a noble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rown into pris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05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n one’s arriv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n / upon + one’s / the +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 </a:t>
            </a:r>
            <a:r>
              <a:rPr b="1" i="1" lang="zh-CN" sz="3200" spc="-1" strike="noStrike">
                <a:solidFill>
                  <a:srgbClr val="ffcc66"/>
                </a:solidFill>
                <a:latin typeface="Times New Roman"/>
              </a:rPr>
              <a:t>一…就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 stood up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n the entranc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of their bo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Upon his retur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the USA, he began his writ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69640" y="1945800"/>
            <a:ext cx="645012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hrough 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prep.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Line 4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…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found that a servant of the family in France had been put in prison,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no fault of his ow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4267080"/>
            <a:ext cx="4495680" cy="1676520"/>
          </a:xfrm>
          <a:prstGeom prst="cloudCallout">
            <a:avLst>
              <a:gd name="adj1" fmla="val -23907"/>
              <a:gd name="adj2" fmla="val -60796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no rea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through sth. / doing sth.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                         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由于……；因为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lost his job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no faul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boy became ill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rough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ating too mu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was all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rough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at you said just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学习目标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69640" y="1945800"/>
            <a:ext cx="6450120" cy="33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Learn about the ending of the sto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Learn useful express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Grammar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–ing Form as Adverbi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69640" y="1676160"/>
            <a:ext cx="6754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through: because of; as a result of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              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u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late for class through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=…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because of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=…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s a result of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= …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ue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zh-CN" sz="32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(Line 7; Para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en the people in the court heard this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ere was no 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their minds that the St. Evremonde family had done much wro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69832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ub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怀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’s some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whether John will come on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ve no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who did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whole matter is still in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ub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no doubt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必定；无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 doubt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怀疑；猜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’s no doubt (about) ... / that …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毫无疑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ithout doubt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毫无疑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wrong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8;Para 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 was no doubt in their mind that the St. Evremonde family had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ne much 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98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wrong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做错事；做坏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hope you will never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 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ha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ne 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but he felt truly sor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45960" y="1946160"/>
            <a:ext cx="622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wrong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i="1" lang="zh-CN" sz="32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),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 right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i="1" lang="zh-CN" sz="32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hildren don’t know the difference between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righ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good 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做好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harm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有害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one’s best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66024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eager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j. 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4; Para 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n he went to Defarge’s wine shop, where he learnt why they were so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 eager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o  have Charles sentenced to dea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eag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j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渴望的；热切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be eager to do s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’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r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ll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eager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ee the sights of the capit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assistan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was eager to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serve u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nxiou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j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He sat in the armchair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reading the newspap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23600" y="4159080"/>
            <a:ext cx="67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sat in the armchair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and read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newspap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Arial"/>
              </a:rPr>
              <a:t>Pre-reading Ques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69640" y="1945800"/>
            <a:ext cx="637380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) What happened to Charles Darn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) How did Sydney keep his promi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0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Being ill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she had to stay in b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9760" y="3000240"/>
            <a:ext cx="59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had to stay in bed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becau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he was i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60680" y="423540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As  she was i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she had to stay in b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17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The boy fell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striking his head against the doo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cutting i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3800" y="3686040"/>
            <a:ext cx="629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oy fell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o that he struck hi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head against the doo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cut i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90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She broke her looking glass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ressing to go ou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6760" y="3962520"/>
            <a:ext cx="63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broke her looking glass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wh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he was dressing to go ou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Keeping on your fee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you will only make yourself more tir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80840" y="3914640"/>
            <a:ext cx="633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If you keep on your f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you wil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ly make yourself more tir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683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所表示的主语的动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 Hearing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cry for help, they rushed out of the roo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Having ha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upper, he went out for a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Homework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. Page 59, Part 3, 4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. Workbook, page 120, Exx 2, 3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. Writing: An Introduction to An English Nove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Arial"/>
              </a:rPr>
              <a:t>Check Your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676160"/>
            <a:ext cx="652608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) What happened to Charles Darn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1640" y="2819520"/>
            <a:ext cx="54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 returned to France 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rescue a serva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83640" y="3930480"/>
            <a:ext cx="592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cc66"/>
                </a:solidFill>
                <a:latin typeface="Arial"/>
              </a:rPr>
              <a:t>* … recognized by some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cc66"/>
                </a:solidFill>
                <a:latin typeface="Arial"/>
              </a:rPr>
              <a:t>and thrown into pris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00920" y="5105520"/>
            <a:ext cx="50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 sentenced to de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Arial"/>
              </a:rPr>
              <a:t>Check Your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50520" y="1945800"/>
            <a:ext cx="68310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) How did Sydney keep his promi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97120" y="3305160"/>
            <a:ext cx="658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 took the place of his friend and had his head cut off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2320" y="4572000"/>
            <a:ext cx="65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sacrificed his own life for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The poor people in Paris went up to fight against the nobles because they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been cruelly treated b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were told to do 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liked fighting against the 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wanted to come into pow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The poor people in Paris went up to fight against the nobles because they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A. had been cruelly treated b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were told to do 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liked fighting against the 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wanted to come into pow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22280" y="190512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The fact that Charles Darnay went to Paris to rescue the servant shows that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e felt guilty of his p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he had done something wrong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serv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he was a kind 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e regretted what he had do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0T09:03:12Z</dcterms:modified>
  <cp:revision>342</cp:revision>
  <dc:subject/>
  <dc:title>Unit 19 A freedom fighter (continued)</dc:title>
</cp:coreProperties>
</file>